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562-CA33-42C4-809A-2BAD803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8C7-36DB-494E-AE4E-D1F4C10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0980B-FB36-4B14-A226-527F7D78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4C797-981E-4ECA-AF5F-6BFAD47A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2956C-6A0D-4960-B64D-2A0CFFE1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46F5F-66F7-4FB0-9C0C-B7AAA13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03664-EEA0-4DA1-8BC2-888D0872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FF508-2AA8-4451-9A42-3A63F95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F9EA2-60BB-41D2-A3B1-50D4107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E7FE5-E090-4D6F-984E-C588B65E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75E3-E5E9-46B2-BB66-8C6FB5E1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BC895-C0B4-4D4E-8A3D-40A624CC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AD7-F65E-47BC-876D-76BF1B8D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83967-D24B-45BA-9912-80CCD829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21A3D-D502-462E-B8D6-7063EAD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4FE14-C6C1-412E-97DA-2B0E3CF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D94AF-2C66-42A4-BC55-2763A97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C24E7-DE16-4C69-BFE7-CA6A32E9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38614-E981-4C63-BE0F-3047AC8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51636-757B-42D4-A87F-D04081F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9BEB5-9EB9-481A-AA5A-20C485F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0C0AF-F58C-4E6B-89D3-BE64BE3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7C230-6337-4FDF-B70F-48116B56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FF3-DF0D-4259-9086-F44D4343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DFFAB-555B-42CE-B456-46C270B6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43780-8785-4629-BAA7-B0CC6D1E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977BE-A513-4DE5-ADA4-776D1D98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7DE38-2240-4A84-B712-17C2472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9C15-1572-44C5-8A6A-945D9785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E119-FE04-4F20-A306-4D5E361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ADAEF-EB7C-47FA-BC3F-2F7BD0E9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753EA-74BF-47D2-B440-9A8FC99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ECFE-F515-4154-AC45-65DD8F1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9B4F2-E6A7-4483-B2EE-FE5F38A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784B-D1A8-4886-B24F-C67D8AEC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7C465-17FB-4724-AC57-56B5ECC0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BA0DD-639B-4041-AA4C-AA889304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F2E9C-4032-4054-9089-DC4C637B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3DAE0-8115-41E6-8ED8-6807B223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9F8BD-075F-4230-BA76-AA7E732E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D0A99-1DB7-4227-9698-24D57308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0DEA5-B6EC-4FDD-824C-6013D28A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A07F0-9695-452B-B303-31BDC9C3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656CD-9D85-4DD9-BCA0-21E284E0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B3A30-A8D8-4DCF-88F3-6042F49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C77C-12BF-41CE-BA43-F5C1EB4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6C8B3-B229-4096-B6A8-C81CF20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49C02-813A-4266-8E9B-B8BCF6C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B3537-BB7E-4196-963B-692F4217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895EA-0DAB-4E90-9E34-813E0C31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25CD-0B99-4368-A071-51255F87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4A0-970C-47FF-81F8-85F3E039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6EB-8B23-453A-8C4C-0DB7E90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BD0D-60C1-46F0-B1DB-8AF59C3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1F5D-19D4-48FB-A8B3-8113D233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123-E08C-4B32-92CE-465419F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546-39F1-401E-8AD4-07C713DE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2780-B4DA-4B69-87B6-879B3D25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9484-14F5-4C32-A356-7DEF9E0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5305-8828-45DC-8D31-6790A26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3479-78A8-42AA-8F1F-C857B0F7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6410-ACAE-48A1-948B-E1EC2D86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4F0F-7951-409B-A695-15A75888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9012-7906-4D67-957D-146FA15E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C208-8530-4411-B679-F8D3B3E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A04E-6322-4824-A38B-B27EB4C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6906-3700-4311-9711-24AEAF04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1A7-9245-4F66-A4CA-248AC7A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4CB8-4215-442F-BF9E-A4C019E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BBA9-0D53-403F-BB8E-E8AF17E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6E00-288F-46F0-96D5-78214CB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6A5C-E51F-40D4-96FE-F550E9E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5665-CA39-4F1C-937D-876E38A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1C47-F499-45F7-A5EF-952BAEF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A650-60F6-4854-BF9C-C6BB4760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9917-875E-4B4E-8F57-46C7645E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C4BF-3B93-4B8A-AE24-DB6E5AB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48F7-17FF-4E6C-AB3F-7F82BE8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D24-34F8-4A75-A807-EC566E3C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FC6D-F447-48F0-95F8-F08DF83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D1AD-A234-43E0-8974-B6EE286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954C0-3F25-44A4-B4FA-F3102C66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DB9F-4E7A-4B6D-80CD-6F2B32E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2FDF-E729-4414-9135-1E53EAD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520A-1AB8-4527-9E51-EBCBE5A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84A5A-6A5D-477F-B064-7AD4815F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F431-A16F-475C-99F2-BD284E92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4713-B00D-497D-B1BD-1EC42E9A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776D-34F3-4771-8CF6-93C1D978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767-1B2C-416E-B02F-E6B0AB8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BB3F8-CB9E-4F1E-8193-C9B412C1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1228-7790-4CB2-B5E7-7B4F257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B6ED-84FB-4200-B4C5-18F51C1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2BA2-B56C-48E0-8029-DBDCB9DB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A32E-E42D-442D-86C5-4300B83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39E96-1592-4591-9299-328419F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48DD-89FD-4920-81BE-D60C6184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6B79D-45FE-45CA-A9D7-34FD957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737F9-FCB3-42BC-8861-3ED1CF4C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26E6-7621-449A-9AE5-C2A12FD0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038-1EAC-4B7F-B83D-CCA698C5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385E2-2FF1-4B88-A49A-FAEDECB9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175B-9379-4D92-A69D-FE53D110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4A86B-443B-424B-B927-6F84B48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0EF11-936D-4890-AE7B-4E3D215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B202-A256-45EE-BF44-3D05E3EA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0B5DA-7A2E-4D76-9C72-EB7746F1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5FB46-B5DC-4402-81A7-92D0BE71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185CC-C4F4-41E4-9A00-A9DF496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5C43-5B38-4E0F-A40A-B91A28C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94F7-0BAC-4D47-8BD3-2ED9954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311-1230-4426-971B-8A345DE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0F32-617C-4BA6-986E-03BA29B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B7B2-5FC2-4F7F-AA9C-F3EAE6DC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B9A4-90D9-4590-9DC5-0001C53E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5318-E1B6-4772-B637-65E67011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F34B-FB1D-4C20-8C76-F137F8A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C6209-E972-4C2B-9B29-E9B5D794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FF61-0E6C-430C-B6E4-3B9743C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7B827-0C48-4160-BE3E-9A2720C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C0C5-8F37-4D11-B0EF-23D6F117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0CC8-1824-45F9-B752-187665C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024-4293-44ED-BBB0-46ACCDB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9009-75A0-485D-BDB8-D306C36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7E6D8-B0D4-410C-A85A-88D633B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10BF0-B558-4EAD-9CD6-7E71F8C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A2F84-E03F-4241-8780-C67742D2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24E30-65B7-478E-9B32-E110480E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FEBF4-590D-47FE-A868-9897CCFE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C3D1-1BC8-4FBE-BC33-21C2636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84EA-EB8F-4778-8871-4CA3BE0A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C6A65-5F9E-4B12-99EE-DC0C1420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AB23F-50EF-479E-95DC-32E4EF09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F13-8096-4A35-8CE1-314A368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9040-B289-4E11-A598-B3C132B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D2A6-CB07-4E54-9403-4BE8590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8A92-976A-4408-A157-FE44F50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51C2-060C-41B9-9AEE-51653AE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5B111-60AF-4A63-BF9A-7BEC961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6D31E-B497-4F8C-8A0D-6443A879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3BE7B-3508-4BA2-BDB2-2E731122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BCC12-E58E-4CEE-AED9-B72B93D9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E7160-F450-460C-9830-C01E1BD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3C07D-8111-4D61-BF45-5920ED4F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B8B7-74A8-4327-BA67-2F1D486D4C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E58-C8C8-45CC-A8D7-DA75B2C2D7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5E36-25A0-43B3-A7C7-3678F60BA2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B0D1-35A9-4F6E-8AC5-710E962CF9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020-04B4-4EAE-A74A-F15725419B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AD1E-665F-494C-800E-D1E5717E4E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F401-B2FA-453D-ADBC-7A80B67518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AFB-0444-44AE-AD98-150B6CAB19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96EE-256B-4F83-BF3B-55D43B78AB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CDA-27FC-4BBE-81A1-CE0780A24F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B926-FF8A-4360-8382-BF9BD3E349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CA82-54A0-417B-976A-FAF8342C71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37 Ten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arivý l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droj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l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ňa bezpečne viesť chce vždy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ý č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žiarivý Lú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svieti mi tm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rok môj vedie vpr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 je vždy so m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záchranou stal sa 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vil ma vín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ád chválu mu vzdávať chcem za spásy č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droj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l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ňa bezpečne viesť chce vždy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ý č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žiarivý Lú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rozptýliť m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v súženia čas mdlie nádeje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sľúbil, že nado mn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bude bd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ech spev vďaky znie j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chválu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droj 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l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ňa bezpečne viesť chce vždy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každý čas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en žiarivý Lúč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o tme mám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svet zvádza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pokuš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 v mdlobe a slab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ždy dá dosť sí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chce, aby som sláv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 ním zv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zil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05:04Z</dcterms:modified>
  <cp:revision>23</cp:revision>
  <dc:subject/>
  <dc:title>Je veľký náš Pán, on slávy je Kráľ Nech do všetkých strán  spev vrúcnych znie chvál.</dc:title>
</cp:coreProperties>
</file>